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730-AC24-4793-A9EF-753F61A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71B-9353-4589-A990-46AB221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B63-EE93-4B10-85BB-2184271D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2FB-6E78-4FFB-A8B5-C9BB89CA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FB6-0E93-43F7-97B6-D0504D6B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97E-88A2-42C0-9FEB-324A83B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445-3F6C-49B3-BA8E-D8FFF9BC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EF7-6F50-4855-B50C-9072654C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FCF-7046-4B44-BB43-ED2BDB5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BCA-F696-4010-B933-FE1DB40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1A1-320B-4B0F-ABC7-B24FDEA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2F5-F1FE-4515-BA42-D36F14A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AA3-A132-4BDC-8805-9047C74E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1218960"/>
            <a:ext cx="25905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s. 154-1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nce de leon"/>
          <p:cNvPicPr/>
          <p:nvPr/>
        </p:nvPicPr>
        <p:blipFill>
          <a:blip r:embed="rId1"/>
          <a:stretch/>
        </p:blipFill>
        <p:spPr>
          <a:xfrm>
            <a:off x="1066680" y="2666880"/>
            <a:ext cx="2362320" cy="255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e soto"/>
          <p:cNvPicPr/>
          <p:nvPr/>
        </p:nvPicPr>
        <p:blipFill>
          <a:blip r:embed="rId2"/>
          <a:stretch/>
        </p:blipFill>
        <p:spPr>
          <a:xfrm>
            <a:off x="5638680" y="266688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066680" y="5562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ce de 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486400" y="556272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nando de Soto traveled with an army of 600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marched north from Florida to the Tennessee River Valley searching for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sent day Tennessee, they killed or captured Cherokee Indians and burned their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to encountered many other Indian tribes during his exp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ncountered the Mound Builders killing between 2,500 to 11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is battle, De Soto’s men were in poor condition.  Many died others dese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soldiers marched to the Mississippi River. They were the first Europeans to see the great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542, De Soto died of f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en buried him in the Mississippi River to hide his death from the In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he found no gold, Hernando de Soto claimed the land he explored for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men returned to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 soto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panish empire 1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Oval 7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Expl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b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b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s from Spain went on to explore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n by their desir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t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pushed deep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and Sou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new land to the Spanish but it was home to people already liv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ztecs and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te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Mex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as of South Amer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two native groups the Spanish encount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groups were rich in gold, however, the Incas were far richer and more powerful than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soldiers were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quista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ing conque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ztec map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Oval 10"/>
          <p:cNvSpPr/>
          <p:nvPr/>
        </p:nvSpPr>
        <p:spPr>
          <a:xfrm>
            <a:off x="762120" y="2743200"/>
            <a:ext cx="4419360" cy="24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inca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Oval 10"/>
          <p:cNvSpPr/>
          <p:nvPr/>
        </p:nvSpPr>
        <p:spPr>
          <a:xfrm>
            <a:off x="2209680" y="1523880"/>
            <a:ext cx="228600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066680"/>
          <a:ext cx="8382240" cy="53722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Explo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Ponce de L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 and 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do C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9-1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 and Califor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cisco Pizar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-15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Coast of Sou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Hernando de So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9-1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ast 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on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-1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 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onquistado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ce de Leon had sailed with Columbus on his second voy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lored and conque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rto R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ecame its gover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ater sailed to North America landing in present d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tain of Yo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first Spaniard to set foot in what is today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nce de leon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4:11:29Z</dcterms:created>
  <dc:creator>Mardena Collins</dc:creator>
  <dc:description/>
  <dc:language>en-US</dc:language>
  <cp:lastModifiedBy>laura.arnold</cp:lastModifiedBy>
  <dcterms:modified xsi:type="dcterms:W3CDTF">2012-10-23T15:35:08Z</dcterms:modified>
  <cp:revision>31</cp:revision>
  <dc:subject/>
  <dc:title>Ponce de Leon Hernando de Soto</dc:title>
</cp:coreProperties>
</file>